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CF1-E70D-4C86-B1C8-33699C4C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701-C403-4776-970D-614D665F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09A-7398-45B4-B1E3-5D83EFCC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338-4B9B-4ED3-B2EC-83B5103E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B77-D154-489B-85D3-C1BE0339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41C-5CAA-4905-ABD9-473C608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F04-B34E-4619-AD1F-DDD1CF7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1E-AA72-4B8C-8441-CA590936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83E-24DF-4014-BAAF-6268CC65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1DE-A8F8-4019-A424-4123CF48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F7F-D693-42C3-9E8F-25F935A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531-C436-48B0-8451-8B39920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D74-243D-4666-8AB7-2BB8CC9C3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7360" y="655200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-4680"/>
            <a:ext cx="9150480" cy="6862680"/>
            <a:chOff x="-6480" y="-4680"/>
            <a:chExt cx="915048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-648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8792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n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2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4680" y="199440"/>
              <a:ext cx="747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s and Ang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Geome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lassifying Pairs of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17542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07120" y="2743200"/>
            <a:ext cx="3836880" cy="3314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80880" y="1523880"/>
            <a:ext cx="7854840" cy="2018520"/>
            <a:chOff x="380880" y="1523880"/>
            <a:chExt cx="7854840" cy="2018520"/>
          </a:xfrm>
        </p:grpSpPr>
        <p:sp>
          <p:nvSpPr>
            <p:cNvPr id="135" name=""/>
            <p:cNvSpPr/>
            <p:nvPr/>
          </p:nvSpPr>
          <p:spPr>
            <a:xfrm>
              <a:off x="387000" y="19861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To determine which line is the transversal for a given angle pair, locate the line that connects the vertic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5238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Identifying Angle Pairs and Trans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4864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7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the angle pai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3037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3809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962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19320" y="2514600"/>
            <a:ext cx="1828800" cy="459720"/>
            <a:chOff x="1219320" y="2514600"/>
            <a:chExt cx="1828800" cy="459720"/>
          </a:xfrm>
        </p:grpSpPr>
        <p:sp>
          <p:nvSpPr>
            <p:cNvPr id="158" name=""/>
            <p:cNvSpPr/>
            <p:nvPr/>
          </p:nvSpPr>
          <p:spPr>
            <a:xfrm>
              <a:off x="1219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 || 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8240" y="25653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0040" y="25527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19320" y="3454560"/>
            <a:ext cx="3276360" cy="459720"/>
            <a:chOff x="1219320" y="3454560"/>
            <a:chExt cx="3276360" cy="459720"/>
          </a:xfrm>
        </p:grpSpPr>
        <p:sp>
          <p:nvSpPr>
            <p:cNvPr id="162" name=""/>
            <p:cNvSpPr/>
            <p:nvPr/>
          </p:nvSpPr>
          <p:spPr>
            <a:xfrm>
              <a:off x="1219320" y="345456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350532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6440" y="3517920"/>
              <a:ext cx="469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44920"/>
            <a:ext cx="3276720" cy="459720"/>
            <a:chOff x="1143000" y="4444920"/>
            <a:chExt cx="3276720" cy="459720"/>
          </a:xfrm>
        </p:grpSpPr>
        <p:sp>
          <p:nvSpPr>
            <p:cNvPr id="166" name=""/>
            <p:cNvSpPr/>
            <p:nvPr/>
          </p:nvSpPr>
          <p:spPr>
            <a:xfrm>
              <a:off x="1143000" y="44449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CG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008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4300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4382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724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G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H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J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458200" cy="4952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s that lie in the same pl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ngles whose sum is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two distinct intersect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adjacent angles whose non-common sides are opposite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plana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352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near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2514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arallel, perpendicular, and skew l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angles formed by two lines and a transver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9810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w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33520" y="1981080"/>
            <a:ext cx="7854840" cy="2505960"/>
            <a:chOff x="533520" y="1981080"/>
            <a:chExt cx="7854840" cy="2505960"/>
          </a:xfrm>
        </p:grpSpPr>
        <p:sp>
          <p:nvSpPr>
            <p:cNvPr id="69" name=""/>
            <p:cNvSpPr/>
            <p:nvPr/>
          </p:nvSpPr>
          <p:spPr>
            <a:xfrm>
              <a:off x="539640" y="2443320"/>
              <a:ext cx="7848720" cy="2043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Segments or rays are parallel, perpendicular, or skew if the lines that contain them are parallel, perpendicular, or ske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ypes of Lines and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362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2895480"/>
            <a:ext cx="2057400" cy="459720"/>
            <a:chOff x="1066680" y="2895480"/>
            <a:chExt cx="2057400" cy="459720"/>
          </a:xfrm>
        </p:grpSpPr>
        <p:sp>
          <p:nvSpPr>
            <p:cNvPr id="78" name=""/>
            <p:cNvSpPr/>
            <p:nvPr/>
          </p:nvSpPr>
          <p:spPr>
            <a:xfrm>
              <a:off x="1066680" y="2895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LM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|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4680" y="2946240"/>
              <a:ext cx="425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29462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41480" y="3759120"/>
            <a:ext cx="3276360" cy="459720"/>
            <a:chOff x="1041480" y="3759120"/>
            <a:chExt cx="3276360" cy="459720"/>
          </a:xfrm>
        </p:grpSpPr>
        <p:sp>
          <p:nvSpPr>
            <p:cNvPr id="82" name=""/>
            <p:cNvSpPr/>
            <p:nvPr/>
          </p:nvSpPr>
          <p:spPr>
            <a:xfrm>
              <a:off x="1041480" y="37591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KN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66680" y="4724280"/>
            <a:ext cx="3276720" cy="459720"/>
            <a:chOff x="1066680" y="472428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1066680" y="4724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NS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5600" y="47880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7750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M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K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149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4520" y="2057400"/>
            <a:ext cx="3489480" cy="23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505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2971800"/>
            <a:ext cx="1981080" cy="459720"/>
            <a:chOff x="1143000" y="2971800"/>
            <a:chExt cx="1981080" cy="459720"/>
          </a:xfrm>
        </p:grpSpPr>
        <p:sp>
          <p:nvSpPr>
            <p:cNvPr id="99" name=""/>
            <p:cNvSpPr/>
            <p:nvPr/>
          </p:nvSpPr>
          <p:spPr>
            <a:xfrm>
              <a:off x="11430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  || 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0080" y="3022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035160"/>
              <a:ext cx="36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3000" y="4038480"/>
            <a:ext cx="3733920" cy="459720"/>
            <a:chOff x="1143000" y="4038480"/>
            <a:chExt cx="3733920" cy="459720"/>
          </a:xfrm>
        </p:grpSpPr>
        <p:sp>
          <p:nvSpPr>
            <p:cNvPr id="103" name=""/>
            <p:cNvSpPr/>
            <p:nvPr/>
          </p:nvSpPr>
          <p:spPr>
            <a:xfrm>
              <a:off x="1143000" y="40384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DE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re ske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480" y="410220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25680" y="41022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43000" y="5029200"/>
            <a:ext cx="3276720" cy="459720"/>
            <a:chOff x="1143000" y="5029200"/>
            <a:chExt cx="3276720" cy="459720"/>
          </a:xfrm>
        </p:grpSpPr>
        <p:sp>
          <p:nvSpPr>
            <p:cNvPr id="107" name=""/>
            <p:cNvSpPr/>
            <p:nvPr/>
          </p:nvSpPr>
          <p:spPr>
            <a:xfrm>
              <a:off x="1143000" y="50292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192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4300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J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jayabalaji.b</cp:lastModifiedBy>
  <cp:lastPrinted>2002-10-02T17:02:09Z</cp:lastPrinted>
  <dcterms:modified xsi:type="dcterms:W3CDTF">2010-03-22T07:01:14Z</dcterms:modified>
  <cp:revision>149</cp:revision>
  <dc:subject/>
  <dc:title>No Slide Title</dc:title>
</cp:coreProperties>
</file>