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8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12C-4532-459F-B091-C5E904A3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137-BA52-4030-A1A4-2A1D2561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C46-0644-4917-B297-79E20B4B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EF6-C568-439E-880E-9F5D4D72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D92-A40E-4ABD-A2EA-5688ABC5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DF6-EFA4-4923-84FA-1F1443F7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C66-2818-4BCC-932A-FC2976CF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B4E4-9529-41F6-97B9-2CF96E7E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05E-A815-4D83-8930-B241FD51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844-D12F-4BE4-BE15-34A2F293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210-A2BD-40B5-8FB5-CE6386A5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477-8218-4A24-8A6C-2242CC44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8322-2E51-4F02-9B6F-CDBECFE81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6480" y="655020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7360" y="6552000"/>
            <a:ext cx="24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6480" y="-4680"/>
            <a:ext cx="9150480" cy="6862680"/>
            <a:chOff x="-6480" y="-4680"/>
            <a:chExt cx="9150480" cy="686268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-6480" y="-468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3080"/>
              <a:ext cx="505764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87920" y="784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54080" y="116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nes and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0392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4680" y="199440"/>
              <a:ext cx="74707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Lines and Ang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Holt Geome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57600" y="23907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57600" y="3048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3657600" y="36860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553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Classifying Pairs of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76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an example of each angle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514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4290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343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ex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5257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-sid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4800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715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00800" y="2666880"/>
            <a:ext cx="175428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07120" y="2743200"/>
            <a:ext cx="3836880" cy="3314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1676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an example of each angle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514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3429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343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ex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257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-sid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4800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715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380880" y="1523880"/>
            <a:ext cx="7854840" cy="2018520"/>
            <a:chOff x="380880" y="1523880"/>
            <a:chExt cx="7854840" cy="2018520"/>
          </a:xfrm>
        </p:grpSpPr>
        <p:sp>
          <p:nvSpPr>
            <p:cNvPr id="135" name=""/>
            <p:cNvSpPr/>
            <p:nvPr/>
          </p:nvSpPr>
          <p:spPr>
            <a:xfrm>
              <a:off x="387000" y="1986120"/>
              <a:ext cx="7848720" cy="15562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To determine which line is the transversal for a given angle pair, locate the line that connects the vertic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880" y="15238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Identifying Angle Pairs and Trans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676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the transversal and classify each angle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666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809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50292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0481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nsversal </a:t>
            </a:r>
            <a:r>
              <a:rPr b="0" lang="en-US" sz="2400" spc="-1" strike="noStrike">
                <a:solidFill>
                  <a:srgbClr val="ff0000"/>
                </a:solidFill>
                <a:latin typeface="Monotype Corsiva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corr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2670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t. in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54864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t. ex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276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6765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the transversal and classify the angle pai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 in the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952880" y="2666880"/>
            <a:ext cx="3303720" cy="304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38098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same-side int.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447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435480" cy="2046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09480" y="1981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arallel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971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skew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9625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erpendicular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952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arallel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219320" y="2514600"/>
            <a:ext cx="1828800" cy="459720"/>
            <a:chOff x="1219320" y="2514600"/>
            <a:chExt cx="1828800" cy="459720"/>
          </a:xfrm>
        </p:grpSpPr>
        <p:sp>
          <p:nvSpPr>
            <p:cNvPr id="158" name=""/>
            <p:cNvSpPr/>
            <p:nvPr/>
          </p:nvSpPr>
          <p:spPr>
            <a:xfrm>
              <a:off x="1219320" y="2514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EH || 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08240" y="25653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10040" y="25527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219320" y="3454560"/>
            <a:ext cx="3276360" cy="459720"/>
            <a:chOff x="1219320" y="3454560"/>
            <a:chExt cx="3276360" cy="459720"/>
          </a:xfrm>
        </p:grpSpPr>
        <p:sp>
          <p:nvSpPr>
            <p:cNvPr id="162" name=""/>
            <p:cNvSpPr/>
            <p:nvPr/>
          </p:nvSpPr>
          <p:spPr>
            <a:xfrm>
              <a:off x="1219320" y="345456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BF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and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E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95280" y="3505320"/>
              <a:ext cx="456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76440" y="3517920"/>
              <a:ext cx="469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143000" y="4444920"/>
            <a:ext cx="3276720" cy="459720"/>
            <a:chOff x="1143000" y="4444920"/>
            <a:chExt cx="3276720" cy="459720"/>
          </a:xfrm>
        </p:grpSpPr>
        <p:sp>
          <p:nvSpPr>
            <p:cNvPr id="166" name=""/>
            <p:cNvSpPr/>
            <p:nvPr/>
          </p:nvSpPr>
          <p:spPr>
            <a:xfrm>
              <a:off x="1143000" y="444492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CG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G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70080" y="44956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3720" y="44956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14300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435480" cy="2046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523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4382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ai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38862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air 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4724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ai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ex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2767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H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HG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5638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ai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-sid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4267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H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FG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5181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IHE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JG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H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HG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90720"/>
            <a:ext cx="8458200" cy="49528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s that lie in the same pla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angles whose sum is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ersection of two distinct intersecting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adjacent angles whose non-common sides are opposite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4382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planar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352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upplementary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410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inear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905120"/>
            <a:ext cx="8382240" cy="25146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arallel, perpendicular, and skew lin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the angles formed by two lines and a transvers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1981080"/>
            <a:ext cx="8364600" cy="40388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lle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pendicular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ew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llel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ex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-sid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99172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33520" y="1981080"/>
            <a:ext cx="7854840" cy="2505960"/>
            <a:chOff x="533520" y="1981080"/>
            <a:chExt cx="7854840" cy="2505960"/>
          </a:xfrm>
        </p:grpSpPr>
        <p:sp>
          <p:nvSpPr>
            <p:cNvPr id="69" name=""/>
            <p:cNvSpPr/>
            <p:nvPr/>
          </p:nvSpPr>
          <p:spPr>
            <a:xfrm>
              <a:off x="539640" y="2443320"/>
              <a:ext cx="7848720" cy="204372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Segments or rays are parallel, perpendicular, or skew if the lines that contain them are parallel, perpendicular, or skew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3520" y="19810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Identifying Types of Lines and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362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arallel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skew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191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erpendicular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5105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arallel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066680" y="2895480"/>
            <a:ext cx="2057400" cy="459720"/>
            <a:chOff x="1066680" y="2895480"/>
            <a:chExt cx="2057400" cy="459720"/>
          </a:xfrm>
        </p:grpSpPr>
        <p:sp>
          <p:nvSpPr>
            <p:cNvPr id="78" name=""/>
            <p:cNvSpPr/>
            <p:nvPr/>
          </p:nvSpPr>
          <p:spPr>
            <a:xfrm>
              <a:off x="1066680" y="28954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LM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||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Q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74680" y="2946240"/>
              <a:ext cx="425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81080" y="29462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041480" y="3759120"/>
            <a:ext cx="3276360" cy="459720"/>
            <a:chOff x="1041480" y="3759120"/>
            <a:chExt cx="3276360" cy="459720"/>
          </a:xfrm>
        </p:grpSpPr>
        <p:sp>
          <p:nvSpPr>
            <p:cNvPr id="82" name=""/>
            <p:cNvSpPr/>
            <p:nvPr/>
          </p:nvSpPr>
          <p:spPr>
            <a:xfrm>
              <a:off x="1041480" y="37591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KN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and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P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43000" y="38098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2320" y="38098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066680" y="4724280"/>
            <a:ext cx="3276720" cy="459720"/>
            <a:chOff x="1066680" y="4724280"/>
            <a:chExt cx="3276720" cy="459720"/>
          </a:xfrm>
        </p:grpSpPr>
        <p:sp>
          <p:nvSpPr>
            <p:cNvPr id="86" name=""/>
            <p:cNvSpPr/>
            <p:nvPr/>
          </p:nvSpPr>
          <p:spPr>
            <a:xfrm>
              <a:off x="1066680" y="47242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NS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55600" y="478800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7750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066680" y="5562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lan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NMR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|| plan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K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149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54520" y="2057400"/>
            <a:ext cx="3489480" cy="2309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514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 pair of parallel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505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 pair of skew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 pair of parallel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 pair of perpendicular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43000" y="2971800"/>
            <a:ext cx="1981080" cy="459720"/>
            <a:chOff x="1143000" y="2971800"/>
            <a:chExt cx="1981080" cy="459720"/>
          </a:xfrm>
        </p:grpSpPr>
        <p:sp>
          <p:nvSpPr>
            <p:cNvPr id="99" name=""/>
            <p:cNvSpPr/>
            <p:nvPr/>
          </p:nvSpPr>
          <p:spPr>
            <a:xfrm>
              <a:off x="1143000" y="2971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BF  || 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70080" y="30225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09680" y="3035160"/>
              <a:ext cx="368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43000" y="4038480"/>
            <a:ext cx="3733920" cy="459720"/>
            <a:chOff x="1143000" y="4038480"/>
            <a:chExt cx="3733920" cy="459720"/>
          </a:xfrm>
        </p:grpSpPr>
        <p:sp>
          <p:nvSpPr>
            <p:cNvPr id="103" name=""/>
            <p:cNvSpPr/>
            <p:nvPr/>
          </p:nvSpPr>
          <p:spPr>
            <a:xfrm>
              <a:off x="1143000" y="40384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BF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and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DE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are skew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30480" y="4102200"/>
              <a:ext cx="446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25680" y="41022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143000" y="5029200"/>
            <a:ext cx="3276720" cy="459720"/>
            <a:chOff x="1143000" y="5029200"/>
            <a:chExt cx="3276720" cy="459720"/>
          </a:xfrm>
        </p:grpSpPr>
        <p:sp>
          <p:nvSpPr>
            <p:cNvPr id="107" name=""/>
            <p:cNvSpPr/>
            <p:nvPr/>
          </p:nvSpPr>
          <p:spPr>
            <a:xfrm>
              <a:off x="1143000" y="502920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BF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31920" y="50925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81080" y="50925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14300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lan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FJH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|| plan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jayabalaji.b</cp:lastModifiedBy>
  <cp:lastPrinted>2002-10-02T17:02:09Z</cp:lastPrinted>
  <dcterms:modified xsi:type="dcterms:W3CDTF">2010-03-22T07:01:14Z</dcterms:modified>
  <cp:revision>149</cp:revision>
  <dc:subject/>
  <dc:title>No Slide Title</dc:title>
</cp:coreProperties>
</file>