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media/image8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D9F2-79D0-4C4A-A7E3-C8C67ECB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54D1-3255-4E4A-8D28-D1D34E33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F264-5D9E-4787-8177-9F291B2B1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19BA-10AA-42F3-9F5A-D6C2C355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DB40-E75A-49A7-8E93-7E81C0FD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787B-8CAE-40EE-BE5F-9FC0C794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A8DF-5333-4A6E-9518-F81CE95D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ABE2-550F-4DD0-927C-83DF5EA4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EBB4-E576-48DD-BB3D-AD4FAB22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0D3D-10DB-4757-AB30-C553D913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2A05-3059-4EEA-8954-A7A55A0A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F2E7-0C2E-4B44-AAD9-D86F8FF7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50A8-63D6-4D15-BB24-364806C1B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-6480" y="655020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7360" y="6552000"/>
            <a:ext cx="243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McDougal 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6480" y="-4680"/>
            <a:ext cx="9150480" cy="6862680"/>
            <a:chOff x="-6480" y="-4680"/>
            <a:chExt cx="9150480" cy="6862680"/>
          </a:xfrm>
        </p:grpSpPr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-6480" y="-468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4086360" y="6553080"/>
              <a:ext cx="505764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"/>
          <p:cNvSpPr/>
          <p:nvPr/>
        </p:nvSpPr>
        <p:spPr>
          <a:xfrm>
            <a:off x="187920" y="7848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54080" y="11664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nes and 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03920" y="137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3-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44680" y="199440"/>
              <a:ext cx="747072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Lines and Angl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Holt Geome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657600" y="23907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657600" y="30481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4" action="ppaction://hlinksldjump"/>
          </p:cNvPr>
          <p:cNvSpPr/>
          <p:nvPr/>
        </p:nvSpPr>
        <p:spPr>
          <a:xfrm>
            <a:off x="3657600" y="368604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0" y="6534000"/>
            <a:ext cx="9144000" cy="324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6553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McDougal 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: Classifying Pairs of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6765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ive an example of each angle p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2514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responding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34290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nate in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43434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nate ex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2971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52578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e-side in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886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4800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5715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400800" y="2666880"/>
            <a:ext cx="175428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07120" y="2743200"/>
            <a:ext cx="3836880" cy="3314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920" y="16765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ive an example of each angle p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2514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responding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3429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nate in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43434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nate ex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2971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52578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e-side in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3886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4800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5715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380880" y="1523880"/>
            <a:ext cx="7854840" cy="2018520"/>
            <a:chOff x="380880" y="1523880"/>
            <a:chExt cx="7854840" cy="2018520"/>
          </a:xfrm>
        </p:grpSpPr>
        <p:sp>
          <p:nvSpPr>
            <p:cNvPr id="135" name=""/>
            <p:cNvSpPr/>
            <p:nvPr/>
          </p:nvSpPr>
          <p:spPr>
            <a:xfrm>
              <a:off x="387000" y="1986120"/>
              <a:ext cx="7848720" cy="155628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Verdana"/>
                </a:rPr>
                <a:t>To determine which line is the transversal for a given angle pair, locate the line that connects the vertice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0880" y="1523880"/>
              <a:ext cx="27432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 Identifying Angle Pairs and Transver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6765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entify the transversal and classify each angle p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666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3809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50292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.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30481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ransversal </a:t>
            </a:r>
            <a:r>
              <a:rPr b="0" lang="en-US" sz="2400" spc="-1" strike="noStrike">
                <a:solidFill>
                  <a:srgbClr val="ff0000"/>
                </a:solidFill>
                <a:latin typeface="Monotype Corsiva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corr.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2670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ransversal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lt. int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54864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ransversal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lt. ext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419720" y="2209680"/>
            <a:ext cx="42764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167652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entify the transversal and classify the angle pai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 an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 in the dia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952880" y="2666880"/>
            <a:ext cx="3303720" cy="3040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80880" y="38098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ransversal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same-side int. 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4479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entify each of the follow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3435480" cy="2046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09480" y="1981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air of parallel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29718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air of skew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39625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air of perpendicular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49528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air of parallel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219320" y="2514600"/>
            <a:ext cx="1828800" cy="459720"/>
            <a:chOff x="1219320" y="2514600"/>
            <a:chExt cx="1828800" cy="459720"/>
          </a:xfrm>
        </p:grpSpPr>
        <p:sp>
          <p:nvSpPr>
            <p:cNvPr id="158" name=""/>
            <p:cNvSpPr/>
            <p:nvPr/>
          </p:nvSpPr>
          <p:spPr>
            <a:xfrm>
              <a:off x="1219320" y="25146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EH || F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08240" y="256536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10040" y="255276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219320" y="3454560"/>
            <a:ext cx="3276360" cy="459720"/>
            <a:chOff x="1219320" y="3454560"/>
            <a:chExt cx="3276360" cy="459720"/>
          </a:xfrm>
        </p:grpSpPr>
        <p:sp>
          <p:nvSpPr>
            <p:cNvPr id="162" name=""/>
            <p:cNvSpPr/>
            <p:nvPr/>
          </p:nvSpPr>
          <p:spPr>
            <a:xfrm>
              <a:off x="1219320" y="345456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BF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and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E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95280" y="3505320"/>
              <a:ext cx="456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76440" y="3517920"/>
              <a:ext cx="469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143000" y="4444920"/>
            <a:ext cx="3276720" cy="459720"/>
            <a:chOff x="1143000" y="4444920"/>
            <a:chExt cx="3276720" cy="459720"/>
          </a:xfrm>
        </p:grpSpPr>
        <p:sp>
          <p:nvSpPr>
            <p:cNvPr id="166" name=""/>
            <p:cNvSpPr/>
            <p:nvPr/>
          </p:nvSpPr>
          <p:spPr>
            <a:xfrm>
              <a:off x="1143000" y="444492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CG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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G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70080" y="449568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33720" y="449568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143000" y="5410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ABC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and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EF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3435480" cy="2046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523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entify each of the follow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243828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pai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nate in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388620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pair corresponding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47242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pai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nate ex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32767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EHG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HG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5638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8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pai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e-side in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4267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EHG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FG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5181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IHE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JG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6095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EHG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HG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90720"/>
            <a:ext cx="8458200" cy="49528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entify each of the follow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s that lie in the same pla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angles whose sum is 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tersection of two distinct intersecting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air of adjacent angles whose non-common sides are opposite 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4382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planar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33526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upplementary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4191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4100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linear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1905120"/>
            <a:ext cx="8382240" cy="25146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arallel, perpendicular, and skew lin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the angles formed by two lines and a transvers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1981080"/>
            <a:ext cx="8364600" cy="40388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llel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pendicular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kew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llel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responding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nate in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nate ex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e-side in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 Black"/>
              </a:rPr>
              <a:t>Vocabul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899172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33520" y="1981080"/>
            <a:ext cx="7854840" cy="2505960"/>
            <a:chOff x="533520" y="1981080"/>
            <a:chExt cx="7854840" cy="2505960"/>
          </a:xfrm>
        </p:grpSpPr>
        <p:sp>
          <p:nvSpPr>
            <p:cNvPr id="69" name=""/>
            <p:cNvSpPr/>
            <p:nvPr/>
          </p:nvSpPr>
          <p:spPr>
            <a:xfrm>
              <a:off x="539640" y="2443320"/>
              <a:ext cx="7848720" cy="204372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Verdana"/>
                </a:rPr>
                <a:t>Segments or rays are parallel, perpendicular, or skew if the lines that contain them are parallel, perpendicular, or skew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33520" y="1981080"/>
              <a:ext cx="27432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: Identifying Types of Lines and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67652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entify each of the follow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23623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air of parallel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32767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air of skew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41911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air of perpendicular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5105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air of parallel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066680" y="2895480"/>
            <a:ext cx="2057400" cy="459720"/>
            <a:chOff x="1066680" y="2895480"/>
            <a:chExt cx="2057400" cy="459720"/>
          </a:xfrm>
        </p:grpSpPr>
        <p:sp>
          <p:nvSpPr>
            <p:cNvPr id="78" name=""/>
            <p:cNvSpPr/>
            <p:nvPr/>
          </p:nvSpPr>
          <p:spPr>
            <a:xfrm>
              <a:off x="1066680" y="289548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LM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||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Q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74680" y="2946240"/>
              <a:ext cx="425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81080" y="294624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041480" y="3759120"/>
            <a:ext cx="3276360" cy="459720"/>
            <a:chOff x="1041480" y="3759120"/>
            <a:chExt cx="3276360" cy="459720"/>
          </a:xfrm>
        </p:grpSpPr>
        <p:sp>
          <p:nvSpPr>
            <p:cNvPr id="82" name=""/>
            <p:cNvSpPr/>
            <p:nvPr/>
          </p:nvSpPr>
          <p:spPr>
            <a:xfrm>
              <a:off x="1041480" y="375912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KN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and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P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43000" y="380988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62320" y="380988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066680" y="4724280"/>
            <a:ext cx="3276720" cy="459720"/>
            <a:chOff x="1066680" y="4724280"/>
            <a:chExt cx="3276720" cy="459720"/>
          </a:xfrm>
        </p:grpSpPr>
        <p:sp>
          <p:nvSpPr>
            <p:cNvPr id="86" name=""/>
            <p:cNvSpPr/>
            <p:nvPr/>
          </p:nvSpPr>
          <p:spPr>
            <a:xfrm>
              <a:off x="1066680" y="472428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NS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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55600" y="478800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81080" y="477504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066680" y="55627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lane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NMR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|| plane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KL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15000" y="2133720"/>
            <a:ext cx="31496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654520" y="2057400"/>
            <a:ext cx="3489480" cy="2309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67652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entify each of the follow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25146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a pair of parallel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35053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a pair of skew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5486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a pair of parallel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a pair of perpendicular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143000" y="2971800"/>
            <a:ext cx="1981080" cy="459720"/>
            <a:chOff x="1143000" y="2971800"/>
            <a:chExt cx="1981080" cy="459720"/>
          </a:xfrm>
        </p:grpSpPr>
        <p:sp>
          <p:nvSpPr>
            <p:cNvPr id="99" name=""/>
            <p:cNvSpPr/>
            <p:nvPr/>
          </p:nvSpPr>
          <p:spPr>
            <a:xfrm>
              <a:off x="1143000" y="29718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BF  || E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70080" y="302256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09680" y="3035160"/>
              <a:ext cx="368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143000" y="4038480"/>
            <a:ext cx="3733920" cy="459720"/>
            <a:chOff x="1143000" y="4038480"/>
            <a:chExt cx="3733920" cy="459720"/>
          </a:xfrm>
        </p:grpSpPr>
        <p:sp>
          <p:nvSpPr>
            <p:cNvPr id="103" name=""/>
            <p:cNvSpPr/>
            <p:nvPr/>
          </p:nvSpPr>
          <p:spPr>
            <a:xfrm>
              <a:off x="1143000" y="4038480"/>
              <a:ext cx="37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BF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and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DE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are skew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30480" y="4102200"/>
              <a:ext cx="446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25680" y="410220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143000" y="5029200"/>
            <a:ext cx="3276720" cy="459720"/>
            <a:chOff x="1143000" y="5029200"/>
            <a:chExt cx="3276720" cy="459720"/>
          </a:xfrm>
        </p:grpSpPr>
        <p:sp>
          <p:nvSpPr>
            <p:cNvPr id="107" name=""/>
            <p:cNvSpPr/>
            <p:nvPr/>
          </p:nvSpPr>
          <p:spPr>
            <a:xfrm>
              <a:off x="1143000" y="502920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BF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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31920" y="509256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81080" y="509256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143000" y="5867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lane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FJH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|| plane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39152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21:42:53Z</dcterms:created>
  <dc:creator>Manda Reid</dc:creator>
  <dc:description/>
  <dc:language>en-US</dc:language>
  <cp:lastModifiedBy>jayabalaji.b</cp:lastModifiedBy>
  <cp:lastPrinted>2002-10-02T17:02:09Z</cp:lastPrinted>
  <dcterms:modified xsi:type="dcterms:W3CDTF">2010-03-22T07:01:14Z</dcterms:modified>
  <cp:revision>149</cp:revision>
  <dc:subject/>
  <dc:title>No Slide Title</dc:title>
</cp:coreProperties>
</file>