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856-661E-480C-976C-41CBB353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293-8C46-4842-A162-5826055A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C89-6DA7-4E76-8DE5-86D31C11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DA4D-E824-4013-AE01-0B22E9FC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C8E-D9AE-4850-A061-E261F2E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CCC-E1B2-4DD4-B4E7-34964375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F05-BB43-4697-A122-209E389D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D85-1034-42D7-AE39-01F5AD5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6E0-C6E3-4A89-B343-F1643B3A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D75-EED3-4239-85AA-B10399EB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BD9-8566-4E61-86A1-36A6832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588-304A-4AF6-861B-1624258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8A2E-B272-4A46-AECA-00B87352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6480" y="655020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7360" y="6552000"/>
            <a:ext cx="243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6480" y="-4680"/>
            <a:ext cx="9150480" cy="6862680"/>
            <a:chOff x="-6480" y="-4680"/>
            <a:chExt cx="915048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-6480" y="-468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3080"/>
              <a:ext cx="505764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87920" y="784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54080" y="116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nes and 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03920" y="137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3-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44680" y="199440"/>
              <a:ext cx="7470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Lines and Ang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Geome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57600" y="2390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65760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657600" y="36860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Classifying Pairs of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34290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175428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07120" y="2743200"/>
            <a:ext cx="3836880" cy="3314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 an example of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514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715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380880" y="1523880"/>
            <a:ext cx="7854840" cy="2018520"/>
            <a:chOff x="380880" y="1523880"/>
            <a:chExt cx="7854840" cy="2018520"/>
          </a:xfrm>
        </p:grpSpPr>
        <p:sp>
          <p:nvSpPr>
            <p:cNvPr id="135" name=""/>
            <p:cNvSpPr/>
            <p:nvPr/>
          </p:nvSpPr>
          <p:spPr>
            <a:xfrm>
              <a:off x="387000" y="19861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To determine which line is the transversal for a given angle pair, locate the line that connects the vertice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880" y="15238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Identifying Angle Pairs and Trans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each angle p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666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9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0481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2670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54864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276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765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the transversal and classify the angle pai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in th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303720" cy="304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38098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nsversal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447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9480" y="1981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39625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19320" y="2514600"/>
            <a:ext cx="1828800" cy="459720"/>
            <a:chOff x="1219320" y="2514600"/>
            <a:chExt cx="1828800" cy="459720"/>
          </a:xfrm>
        </p:grpSpPr>
        <p:sp>
          <p:nvSpPr>
            <p:cNvPr id="158" name=""/>
            <p:cNvSpPr/>
            <p:nvPr/>
          </p:nvSpPr>
          <p:spPr>
            <a:xfrm>
              <a:off x="121932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 || 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08240" y="25653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0040" y="25527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219320" y="3454560"/>
            <a:ext cx="3276360" cy="459720"/>
            <a:chOff x="1219320" y="3454560"/>
            <a:chExt cx="3276360" cy="459720"/>
          </a:xfrm>
        </p:grpSpPr>
        <p:sp>
          <p:nvSpPr>
            <p:cNvPr id="162" name=""/>
            <p:cNvSpPr/>
            <p:nvPr/>
          </p:nvSpPr>
          <p:spPr>
            <a:xfrm>
              <a:off x="1219320" y="345456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E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3505320"/>
              <a:ext cx="456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76440" y="3517920"/>
              <a:ext cx="469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4444920"/>
            <a:ext cx="3276720" cy="459720"/>
            <a:chOff x="1143000" y="4444920"/>
            <a:chExt cx="3276720" cy="459720"/>
          </a:xfrm>
        </p:grpSpPr>
        <p:sp>
          <p:nvSpPr>
            <p:cNvPr id="166" name=""/>
            <p:cNvSpPr/>
            <p:nvPr/>
          </p:nvSpPr>
          <p:spPr>
            <a:xfrm>
              <a:off x="1143000" y="444492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CG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008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4495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143000" y="54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486400" y="1905120"/>
            <a:ext cx="3435480" cy="2046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5238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4382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38862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 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4724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276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6386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pai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G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181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IHE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JG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EHG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HG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990720"/>
            <a:ext cx="8458200" cy="49528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s that lie in the same pl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angles whose sum is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ersection of two distinct intersecting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adjacent angles whose non-common sides are opposite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438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plana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352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upplementary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191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near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2514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arallel, perpendicular, and skew l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the angles formed by two lines and a transver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1981080"/>
            <a:ext cx="8364600" cy="40388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pendicular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ew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spond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e ex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-side interior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 Black"/>
              </a:rPr>
              <a:t>Vocabul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917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33520" y="1981080"/>
            <a:ext cx="7854840" cy="2505960"/>
            <a:chOff x="533520" y="1981080"/>
            <a:chExt cx="7854840" cy="2505960"/>
          </a:xfrm>
        </p:grpSpPr>
        <p:sp>
          <p:nvSpPr>
            <p:cNvPr id="69" name=""/>
            <p:cNvSpPr/>
            <p:nvPr/>
          </p:nvSpPr>
          <p:spPr>
            <a:xfrm>
              <a:off x="539640" y="2443320"/>
              <a:ext cx="7848720" cy="204372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Segments or rays are parallel, perpendicular, or skew if the lines that contain them are parallel, perpendicular, or skew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3520" y="19810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Identifying Types of Lines and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362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276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91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105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6680" y="2895480"/>
            <a:ext cx="2057400" cy="459720"/>
            <a:chOff x="1066680" y="2895480"/>
            <a:chExt cx="2057400" cy="459720"/>
          </a:xfrm>
        </p:grpSpPr>
        <p:sp>
          <p:nvSpPr>
            <p:cNvPr id="78" name=""/>
            <p:cNvSpPr/>
            <p:nvPr/>
          </p:nvSpPr>
          <p:spPr>
            <a:xfrm>
              <a:off x="1066680" y="2895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LM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||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74680" y="2946240"/>
              <a:ext cx="425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29462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41480" y="3759120"/>
            <a:ext cx="3276360" cy="459720"/>
            <a:chOff x="1041480" y="3759120"/>
            <a:chExt cx="3276360" cy="459720"/>
          </a:xfrm>
        </p:grpSpPr>
        <p:sp>
          <p:nvSpPr>
            <p:cNvPr id="82" name=""/>
            <p:cNvSpPr/>
            <p:nvPr/>
          </p:nvSpPr>
          <p:spPr>
            <a:xfrm>
              <a:off x="1041480" y="37591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KN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P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4300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2320" y="38098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066680" y="4724280"/>
            <a:ext cx="3276720" cy="459720"/>
            <a:chOff x="1066680" y="4724280"/>
            <a:chExt cx="3276720" cy="459720"/>
          </a:xfrm>
        </p:grpSpPr>
        <p:sp>
          <p:nvSpPr>
            <p:cNvPr id="86" name=""/>
            <p:cNvSpPr/>
            <p:nvPr/>
          </p:nvSpPr>
          <p:spPr>
            <a:xfrm>
              <a:off x="1066680" y="4724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NS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55600" y="47880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7750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0666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NMR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KL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3149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54520" y="2057400"/>
            <a:ext cx="3489480" cy="2309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7652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ntify each of the follow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505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skew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5486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arallel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a pair of perpendicular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143000" y="2971800"/>
            <a:ext cx="1981080" cy="459720"/>
            <a:chOff x="1143000" y="2971800"/>
            <a:chExt cx="1981080" cy="459720"/>
          </a:xfrm>
        </p:grpSpPr>
        <p:sp>
          <p:nvSpPr>
            <p:cNvPr id="99" name=""/>
            <p:cNvSpPr/>
            <p:nvPr/>
          </p:nvSpPr>
          <p:spPr>
            <a:xfrm>
              <a:off x="1143000" y="2971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  || E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0080" y="3022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3035160"/>
              <a:ext cx="368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3000" y="4038480"/>
            <a:ext cx="3733920" cy="459720"/>
            <a:chOff x="1143000" y="4038480"/>
            <a:chExt cx="3733920" cy="459720"/>
          </a:xfrm>
        </p:grpSpPr>
        <p:sp>
          <p:nvSpPr>
            <p:cNvPr id="103" name=""/>
            <p:cNvSpPr/>
            <p:nvPr/>
          </p:nvSpPr>
          <p:spPr>
            <a:xfrm>
              <a:off x="1143000" y="40384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nd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DE 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are skew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0480" y="4102200"/>
              <a:ext cx="446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25680" y="41022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143000" y="5029200"/>
            <a:ext cx="3276720" cy="459720"/>
            <a:chOff x="1143000" y="5029200"/>
            <a:chExt cx="3276720" cy="459720"/>
          </a:xfrm>
        </p:grpSpPr>
        <p:sp>
          <p:nvSpPr>
            <p:cNvPr id="107" name=""/>
            <p:cNvSpPr/>
            <p:nvPr/>
          </p:nvSpPr>
          <p:spPr>
            <a:xfrm>
              <a:off x="1143000" y="50292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BF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</a:t>
              </a:r>
              <a:r>
                <a:rPr b="0" lang="en-US" sz="2400" spc="-1" strike="noStrike">
                  <a:solidFill>
                    <a:srgbClr val="ff0000"/>
                  </a:solidFill>
                  <a:latin typeface="Verdana"/>
                </a:rPr>
                <a:t>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Verdana"/>
                </a:rPr>
                <a:t>F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192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81080" y="50925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4300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FJH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|| plane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jayabalaji.b</cp:lastModifiedBy>
  <cp:lastPrinted>2002-10-02T17:02:09Z</cp:lastPrinted>
  <dcterms:modified xsi:type="dcterms:W3CDTF">2010-03-22T07:01:14Z</dcterms:modified>
  <cp:revision>149</cp:revision>
  <dc:subject/>
  <dc:title>No Slide Title</dc:title>
</cp:coreProperties>
</file>