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9AE-FD39-4B41-BF14-7D04105A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983-9728-4C34-AB23-C3171DD4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591-C618-429D-9A3E-ED232A62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01C-DA15-4233-A8FA-356F35D1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3E1-2AD5-454F-A7E6-F9D2AF78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D86-F791-499B-B503-0F23FD3E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F85-F980-4C04-B680-65DAA355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1CB-2517-46E2-B7F8-78560291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87E-F3AE-4A2B-A70C-B4034B01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C38-A3FD-4F79-9AD5-3F20FE66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C08-17B4-4DF5-A443-6247F750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98E-D39D-4635-BAE4-7C30690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DD8F-075A-43F4-B4F6-776DBA09F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27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8120"/>
              <a:ext cx="505764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-237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gles Formed by Parallel 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Trans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-80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gles Formed by 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905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3504960" cy="1982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 =  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657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°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1911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2x and add 15 to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4343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2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2952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n the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Music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05120"/>
            <a:ext cx="50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Alternate Interior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rem, 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5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063960"/>
            <a:ext cx="50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Corresponding Angles Postulate, 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6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4070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(5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+ 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= 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305160" cy="2409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57600" y="41464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the first equation from the secon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5181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y in 5x + 5y = 60. 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4479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measures of the acute angles in the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97360" cy="2087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76880" y="42670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ute angle will be 180° – 125°, or 55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6600" y="2362320"/>
            <a:ext cx="53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Alternate Exterior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rem, (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12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276720"/>
            <a:ext cx="50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Corresponding Angles Postulate, (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12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2880" y="4876920"/>
            <a:ext cx="71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acute angle will be 180° – 120°, or 6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087920"/>
            <a:ext cx="8077320" cy="35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 the theorem or postulate that is related to the measures of the angles in each pair. Then find the unknown angl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120°,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(60x)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(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0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(3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0)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11336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rr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Post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= 120°,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= 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29707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Ex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Thm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= 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899320" y="2362320"/>
            <a:ext cx="3244680" cy="2060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876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(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)°,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= (10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80)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(4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0)°,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(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)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5256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In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Thm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= 120°,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 =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60188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ame-Side In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Thm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= 120°,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 =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60020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ntify each angle 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51760" y="46476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ame-side int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86400" y="2305080"/>
            <a:ext cx="2971800" cy="2031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85520" y="2818800"/>
            <a:ext cx="14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corr.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48520" y="342828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alt. int.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4200" y="403776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alt. ext.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905120"/>
            <a:ext cx="8382240" cy="1600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e and use theorems about the angles formed by parallel lines and a transvers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4582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each angle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Using the Corresponding Angles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96252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2286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8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276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C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343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4800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4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257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5715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22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1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3886200" cy="240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71880" y="44308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RS = 180°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760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3124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73640" y="49528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0°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18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67440" y="54864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62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4419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952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18°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ef. of Linear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33520" y="2209680"/>
            <a:ext cx="7854840" cy="2018520"/>
            <a:chOff x="533520" y="2209680"/>
            <a:chExt cx="7854840" cy="2018520"/>
          </a:xfrm>
        </p:grpSpPr>
        <p:sp>
          <p:nvSpPr>
            <p:cNvPr id="95" name=""/>
            <p:cNvSpPr/>
            <p:nvPr/>
          </p:nvSpPr>
          <p:spPr>
            <a:xfrm>
              <a:off x="539640" y="2671920"/>
              <a:ext cx="7848720" cy="15562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If a transversal is perpendicular to two parallel lines, all eight angles are congruen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520" y="22096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523880"/>
            <a:ext cx="8153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that postulates are statements that are accepted without pro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the Corresponding Angles Postulate is given as a postulate, it can be used to prove the next three theor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each angle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Finding Angl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360" y="23623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040" y="39625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D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lt. Ex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486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D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0° = 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4956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lt. Ex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952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952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30 to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jayabalaji.b</cp:lastModifiedBy>
  <dcterms:modified xsi:type="dcterms:W3CDTF">2010-03-22T07:02:19Z</dcterms:modified>
  <cp:revision>33</cp:revision>
  <dc:subject/>
  <dc:title>Slide 1</dc:title>
</cp:coreProperties>
</file>