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FA60-DCAC-4900-A898-825CF1F2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1D1-080D-4C0C-9EDA-EE2E10B5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C43-5B05-48EE-9594-1CA132FC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D68-FF4D-4B4C-897E-D6DAA375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034-DB31-4CD3-8EBA-B7576D20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063-4F4D-44B0-BF92-E043797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81B-3A8D-4B38-9244-93F6BC8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498-0546-47B9-866D-08F2CB5F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61C-B84B-4964-A1CF-34B7DC5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80A-63CF-4FA3-8314-1E9B66D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5C7-5CB4-4626-AFD0-C82B88E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50A-E7A9-4CBD-BA1F-CD84AFA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45D1-4C68-4B06-A747-C32AAE660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les Formed by Parallel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Trans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80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gles Formed by 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50496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°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1911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2x and add 15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343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us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In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5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6396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070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(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+ 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=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305160" cy="240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4146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the first equation from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181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y in 5x + 5y = 60. 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measures of the acute angles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9736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76880" y="42670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ute angle will be 180° – 125°, or 5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236232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Ex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2767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48769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acute angle will be 180° – 120°, or 6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087920"/>
            <a:ext cx="807732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theorem or postulate that is related to the measures of the angles in each pair. Then find the unknown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20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60x)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33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Post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970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99320" y="2362320"/>
            <a:ext cx="3244680" cy="206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876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= (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4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256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18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 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each angle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51760" y="46476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ame-side int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305080"/>
            <a:ext cx="297180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85520" y="2818800"/>
            <a:ext cx="14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orr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48520" y="34282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in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4200" y="403776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ex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and use theorems about the angles formed by parallel lines and a transve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Using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286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276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4800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257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240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71880" y="4430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RS = 180°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60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3640" y="4952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8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7440" y="5486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2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18°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Linea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33520" y="2209680"/>
            <a:ext cx="7854840" cy="2018520"/>
            <a:chOff x="533520" y="2209680"/>
            <a:chExt cx="7854840" cy="2018520"/>
          </a:xfrm>
        </p:grpSpPr>
        <p:sp>
          <p:nvSpPr>
            <p:cNvPr id="95" name=""/>
            <p:cNvSpPr/>
            <p:nvPr/>
          </p:nvSpPr>
          <p:spPr>
            <a:xfrm>
              <a:off x="539640" y="26719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If a transversal is perpendicular to two parallel lines, all eight angles are congruen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22096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523880"/>
            <a:ext cx="815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at postulates are statements that are accepted without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Corresponding Angles Postulate is given as a postulate, it can be used to prove the next three theor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Angl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23623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3962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°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30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2:19Z</dcterms:modified>
  <cp:revision>33</cp:revision>
  <dc:subject/>
  <dc:title>Slide 1</dc:title>
</cp:coreProperties>
</file>