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3B0-0914-4DA4-8CA6-D3E6AC7C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B0F-E681-4E4E-89F9-7023F965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8E1-BA61-402C-AC28-6F78DBEC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6FB-425F-4ECC-95D3-873376CD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219E-7F9C-4662-87F6-5903515A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95A-75BD-443C-B98C-3FEC1A14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400-452F-426A-A4AE-AFA9FB54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7B5-D8D0-431D-973A-9A80CDE0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184-4371-4F7E-8DBF-C3EAA8BC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A00-6E85-487C-947F-11B0238B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003-2AD7-4C5E-BFC9-5D6A28FC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BE7-68BE-462F-B81F-156285E5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F69B-CDA6-4366-B2E6-88F077653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3240" y="6555240"/>
            <a:ext cx="27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9144000" cy="6862680"/>
            <a:chOff x="0" y="0"/>
            <a:chExt cx="9144000" cy="686268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8120"/>
              <a:ext cx="505764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66680" y="-2376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gles Formed by Parallel 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 Trans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-80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gles Formed by 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5530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905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B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3504960" cy="1982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5029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B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0 =  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3657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°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657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lt.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41911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tract 2x and add 15 to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4343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2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2952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n the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Music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905120"/>
            <a:ext cx="50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the Alternate Interior 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orem, 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° = 55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063960"/>
            <a:ext cx="50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the Corresponding Angles Postulate, 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° = 6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4070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(5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+ 4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= 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5334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3305160" cy="2409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657600" y="41464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tract the first equation from the second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7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51814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 for y in 5x + 5y = 60. 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44792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measures of the acute angles in the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897360" cy="2087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76880" y="426708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ute angle will be 180° – 125°, or 55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6600" y="2362320"/>
            <a:ext cx="53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the Alternate Exterior 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orem, (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° = 125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3276720"/>
            <a:ext cx="50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the Corresponding Angles Postulate, (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° = 12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2880" y="4876920"/>
            <a:ext cx="71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acute angle will be 180° – 120°, or 60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087920"/>
            <a:ext cx="8077320" cy="35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e the theorem or postulate that is related to the measures of the angles in each pair. Then find the unknown angle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120°,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(60x)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(7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0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(3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0)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11336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rr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 Post.;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= 120°,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= 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29707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t. Ext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 Thm.;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= 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899320" y="2362320"/>
            <a:ext cx="3244680" cy="2060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4876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(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)°,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= (10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80)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(4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0)°,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(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)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5256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t. Int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 Thm.;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= 120°,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 =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60188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ame-Side Int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 Thm.;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= 120°,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 =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600200"/>
            <a:ext cx="8153280" cy="3886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ntify each angle p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51760" y="46476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ame-side int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86400" y="2305080"/>
            <a:ext cx="2971800" cy="2031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85520" y="2818800"/>
            <a:ext cx="149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corr.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48520" y="342828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alt. int.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44200" y="4037760"/>
            <a:ext cx="19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alt. ext.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905120"/>
            <a:ext cx="8382240" cy="1600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e and use theorems about the angles formed by parallel lines and a transvers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45820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each angle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1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Using the Corresponding Angles Post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96252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2286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2819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886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276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C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343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4800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4800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tract 4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5257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5715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22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1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R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3886200" cy="240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71880" y="44308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RS = 180°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760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3124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73640" y="49528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80°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18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67440" y="54864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62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4419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tract 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952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18°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ef. of Linear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33520" y="2209680"/>
            <a:ext cx="7854840" cy="2018520"/>
            <a:chOff x="533520" y="2209680"/>
            <a:chExt cx="7854840" cy="2018520"/>
          </a:xfrm>
        </p:grpSpPr>
        <p:sp>
          <p:nvSpPr>
            <p:cNvPr id="95" name=""/>
            <p:cNvSpPr/>
            <p:nvPr/>
          </p:nvSpPr>
          <p:spPr>
            <a:xfrm>
              <a:off x="539640" y="2671920"/>
              <a:ext cx="7848720" cy="15562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If a transversal is perpendicular to two parallel lines, all eight angles are congruent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520" y="22096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523880"/>
            <a:ext cx="81532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 that postulates are statements that are accepted without pro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the Corresponding Angles Postulate is given as a postulate, it can be used to prove the next three theor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each angle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Finding Angl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5360" y="23623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D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3040" y="39625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D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3429000" cy="2643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21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D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lt. Ex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5486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D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495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0° = 7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4956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lt. Ex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4952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4952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dd 30 to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jayabalaji.b</cp:lastModifiedBy>
  <dcterms:modified xsi:type="dcterms:W3CDTF">2010-03-22T07:02:19Z</dcterms:modified>
  <cp:revision>33</cp:revision>
  <dc:subject/>
  <dc:title>Slide 1</dc:title>
</cp:coreProperties>
</file>