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FF8-42D2-4114-87A0-1A173CAE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F1D-028E-42A5-8542-D5E05D4E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6D7-D2F1-4432-9C91-9E3424CA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694-9F01-4D8B-9D15-538A916A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2A5-9E5C-4A45-9093-3F803280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572-53E5-42D2-9121-4D68163D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1C7-D273-497F-9A44-220083F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725-36A0-462A-BA25-62228ADB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E1D-F5D1-4AF5-8ABE-4AAF350D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B54-B758-4243-835B-7F9E2A73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9F-2B62-44CE-BCA9-D04B0EF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C17-E81E-4DA0-A51B-A6F5391F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C888-E677-4712-AD2E-E5E78764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-2376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gles Formed by Parallel L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Trans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-80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gles Formed by Parallel Lines and Trans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905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3504960" cy="1982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 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6576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° =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1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1911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2x and add 15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4343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29528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Music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9051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In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5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06396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070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(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+ 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= 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3305160" cy="2409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657600" y="41464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the first equation from the second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5181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y in 5x + 5y = 60. Simplify and solve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44792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measures of the acute angles in the di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97360" cy="2087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76880" y="42670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ute angle will be 180° – 125°, or 55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36600" y="2362320"/>
            <a:ext cx="53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Alternate Exterior 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rem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5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276720"/>
            <a:ext cx="50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y the Corresponding Angles Postulate,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° = 12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2880" y="4876920"/>
            <a:ext cx="71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acute angle will be 180° – 120°, or 6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087920"/>
            <a:ext cx="807732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theorem or postulate that is related to the measures of the angles in each pair. Then find the unknown angl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20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60x)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(7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3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11336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rr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Post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2970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Ex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= 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899320" y="2362320"/>
            <a:ext cx="3244680" cy="206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4876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5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= (10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(4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30)°,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(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10)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256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lt.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 =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60188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ame-Side Int.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 Thm.;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3 = 120°, m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 =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600200"/>
            <a:ext cx="8153280" cy="3886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ntify each angle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51760" y="46476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ame-side int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86400" y="2305080"/>
            <a:ext cx="2971800" cy="2031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85520" y="2818800"/>
            <a:ext cx="14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corr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48520" y="342828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in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4200" y="403776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alt. ext.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905120"/>
            <a:ext cx="8382240" cy="16002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e and use theorems about the angles formed by parallel lines and a transver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4582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18288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19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Using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96252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2286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86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3276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C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2819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4800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4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257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22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3886200" cy="240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71880" y="4430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RS = 180° 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760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Q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3124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73640" y="4952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 –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18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67440" y="54864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62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4419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tract x from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952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18°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Linear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33520" y="2209680"/>
            <a:ext cx="7854840" cy="2018520"/>
            <a:chOff x="533520" y="2209680"/>
            <a:chExt cx="7854840" cy="2018520"/>
          </a:xfrm>
        </p:grpSpPr>
        <p:sp>
          <p:nvSpPr>
            <p:cNvPr id="95" name=""/>
            <p:cNvSpPr/>
            <p:nvPr/>
          </p:nvSpPr>
          <p:spPr>
            <a:xfrm>
              <a:off x="539640" y="2671920"/>
              <a:ext cx="7848720" cy="155628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If a transversal is perpendicular to two parallel lines, all eight angles are congruent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520" y="2209680"/>
              <a:ext cx="274320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Helpful H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1523880"/>
            <a:ext cx="81532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at postulates are statements that are accepted without p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the Corresponding Angles Postulate is given as a postulate, it can be used to prove the next three theor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600200"/>
            <a:ext cx="82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each angle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Finding Angl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360" y="23623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040" y="39625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3429000" cy="2643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486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D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0° = 7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4956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lt. Ex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952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Add 30 to both s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2:19Z</dcterms:modified>
  <cp:revision>33</cp:revision>
  <dc:subject/>
  <dc:title>Slide 1</dc:title>
</cp:coreProperties>
</file>