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AD5-C21E-4245-A63C-EDC5681F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FDD9-EDD2-4B94-8697-2ED1B97F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77A0-45FD-4979-927A-10DFC11C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668-A6EC-457D-AC11-2129FF47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07E-2264-4986-851E-75184190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CA9-71A8-4746-8D40-50886F61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3D2-4C97-4051-A272-5F348782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157-2585-4E87-BD12-FE0F6A89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EAF5-A495-45BA-9164-66227BE7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029-4207-4DEC-B585-63725F23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C7A-539C-4BC3-8011-1A48B12C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E1C6-8179-4446-8924-54441DD2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B781-1D38-4AAA-8484-BB1A6BAFD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3240" y="6555240"/>
            <a:ext cx="27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9144000" cy="6862680"/>
            <a:chOff x="0" y="0"/>
            <a:chExt cx="9144000" cy="686268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4086360" y="6558120"/>
              <a:ext cx="505764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66680" y="9756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ving Lines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3920" y="137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ving Lines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6553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553200" y="24123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616200" y="302184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584160" y="363132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Qu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65530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olt McDougal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1101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304812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verse of the Corresponding Angles Postulate is used to construct parallel lines. The Parallel Postulate guarantees that for any lin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you can always construct a parallel line through a point that is not o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85800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828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A: Determining Whether Lines are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3176640" cy="2093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24080" y="304812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9640" y="4952880"/>
            <a:ext cx="75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4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8 are alternate ex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58600" y="5562720"/>
            <a:ext cx="53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Alt.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096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= (1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8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= (2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)°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295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: Determining Whether Lines are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176640" cy="2093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920" y="39625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10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0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8 = 58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257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2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3 = 12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22096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= (10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8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= (2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3)°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295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B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176640" cy="2093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880" y="5410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Same-Side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932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58° + 122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4343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57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80°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2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3 are same-side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in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819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 =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523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er to the diagram. 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2968560" cy="194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99640" y="4648320"/>
            <a:ext cx="75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4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8 are alternate exterior 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5360" y="5257800"/>
            <a:ext cx="53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Alt.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352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gruent ang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447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er to the diagram. Use the given information and the theorems you have learned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2968560" cy="1947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28195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= 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 =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50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= 1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640" y="6095880"/>
            <a:ext cx="13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||s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the Alt. Int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8098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50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00°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0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6641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50 = 100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8377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</a:t>
            </a:r>
            <a:r>
              <a:rPr b="0" lang="en-US" sz="2600" spc="-1" strike="noStrike">
                <a:solidFill>
                  <a:srgbClr val="006699"/>
                </a:solidFill>
                <a:latin typeface="Arial Black"/>
              </a:rPr>
              <a:t>Proving Lines Parall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8288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 || 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ℓ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52480" y="2819520"/>
            <a:ext cx="4800600" cy="30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2057400"/>
          <a:ext cx="8077320" cy="3135240"/>
        </p:xfrm>
        <a:graphic>
          <a:graphicData uri="http://schemas.openxmlformats.org/drawingml/2006/table">
            <a:tbl>
              <a:tblPr/>
              <a:tblGrid>
                <a:gridCol w="3429000"/>
                <a:gridCol w="464832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Stat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Rea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f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652320" y="26193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ℓ ||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1400" y="3124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1400" y="3657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8280" y="4191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124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Alt. Ext.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36576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4191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Trans. Prop.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47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Conv. of Corr.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 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752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are sup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1440" y="22860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562640" cy="23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1143000"/>
            <a:ext cx="8686800" cy="472428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e the converse of each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90°, t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collin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95840" y="2589840"/>
            <a:ext cx="37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f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, then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7324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f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are complementary, then m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+ m</a:t>
            </a:r>
            <a:r>
              <a:rPr b="0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21840" y="4875840"/>
            <a:ext cx="65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f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, and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 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are collinear, then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 AB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BC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=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 Continu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920" y="1676520"/>
          <a:ext cx="8610480" cy="4538520"/>
        </p:xfrm>
        <a:graphic>
          <a:graphicData uri="http://schemas.openxmlformats.org/drawingml/2006/table">
            <a:tbl>
              <a:tblPr/>
              <a:tblGrid>
                <a:gridCol w="4037040"/>
                <a:gridCol w="45734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366840" y="21621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05320" y="2133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6840" y="2590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8624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Def.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6840" y="30481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an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are su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30481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6840" y="35053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=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90920" y="3505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Trans. Prop.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6840" y="39625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05320" y="3962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Sub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6840" y="44197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44197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Vert.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840" y="487692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+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4876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b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533412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ℓ 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33760" y="5334120"/>
            <a:ext cx="47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v. of Same-Side Interi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8377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: </a:t>
            </a:r>
            <a:r>
              <a:rPr b="0" lang="en-US" sz="2600" spc="-1" strike="noStrike">
                <a:solidFill>
                  <a:srgbClr val="006699"/>
                </a:solidFill>
                <a:latin typeface="Arial Black"/>
              </a:rPr>
              <a:t>Carpentry 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4479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carpenter is creating a woodwork pattern and wants two long pieces to be parallel.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= (8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20)° and 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 = (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10)°. I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15, show that pieces A and B ar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5159520" cy="27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6765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line through the center of the horizontal piece forms a transversal to pieces A and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8954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are same-side interior angles. 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are supplementary, then pieces A and B are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45720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itute 15 f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 each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4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3400" y="1447920"/>
            <a:ext cx="22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= 8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8480" y="203184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8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20 = 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3400" y="2717640"/>
            <a:ext cx="22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98400" y="325116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2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5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0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920" y="386064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+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= 140 +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69520" y="4368960"/>
            <a:ext cx="9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84360" y="205740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4360" y="327672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5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9200" y="391176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1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2 are sup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49784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ame-side interior angles are supplementary, so pieces A and B are parallel by the Converse of the Same-Side Interior Angles Theor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4670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hat if…?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uppose the corresponding angles on the opposite side of the boat measure (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– 2)° and (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6)°,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8. Show that the oars are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511956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2 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8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2 = 30°        3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6 = 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8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6 = 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105520" y="1371600"/>
            <a:ext cx="3533760" cy="3867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28600" y="5715000"/>
            <a:ext cx="876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The angles are congruent, so the oars are || by the Conv. of the Corr. </a:t>
            </a:r>
            <a:r>
              <a:rPr b="0" lang="en-US" sz="28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3366ff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324480" y="1371600"/>
            <a:ext cx="2328840" cy="17604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80880" y="17524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me the postulate or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at proves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000" y="2771640"/>
            <a:ext cx="17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92760" y="2771640"/>
            <a:ext cx="376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. of Alt. Int.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000" y="3432240"/>
            <a:ext cx="18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98880" y="3432240"/>
            <a:ext cx="37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. of Alt. Ext.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000" y="4067280"/>
            <a:ext cx="18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38760" y="4067280"/>
            <a:ext cx="34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. of Corr.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6640" y="4753080"/>
            <a:ext cx="50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and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are supplemen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9000" y="54100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v. of Same-Side Int.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7524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theorems and given information to prov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 || 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2971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)°, m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7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)°,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3581280"/>
            <a:ext cx="632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)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) +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, so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≅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p || r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y the Conv. of Alt. Ext.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905120"/>
            <a:ext cx="8610840" cy="1143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e angles formed by a transversal to prove two lines are parall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1752480"/>
            <a:ext cx="838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all that the converse of a theorem is found by exchanging the hypothesis and conclusion. The converse of a theorem is not automatically true. If it is true, it must be stated as a postulate or proved as a separate theo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722320" cy="2021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182880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Converse of the Corresponding Angles Postulate and the given information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A: Using the Converse of the Corresponding Angles Post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4080" y="312408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79120" y="4724280"/>
            <a:ext cx="74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4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8 are corresponding angl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65880" y="5257800"/>
            <a:ext cx="52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676520"/>
            <a:ext cx="82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Converse of the Corresponding Angles Postulate and the given information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B: Using the Converse of the Corresponding Angles Post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722320" cy="2021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30481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 = (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80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 = (3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– 50)°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3600" y="4419720"/>
            <a:ext cx="63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0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80 = 4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30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20760" y="48769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= 3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30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50 = 4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30 for x.</a:t>
            </a: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9840" y="609588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| m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5960" y="5715000"/>
            <a:ext cx="60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ef. of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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5040" y="5334120"/>
            <a:ext cx="69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ns. Prop. of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219320"/>
            <a:ext cx="8237520" cy="38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Converse of the Corresponding Angles Postulate and the given information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 = 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2362320" cy="231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458784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1 and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3 are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rresponding angl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07200" y="5410080"/>
            <a:ext cx="52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|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83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219320"/>
            <a:ext cx="823752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the Converse of the Corresponding Angles Postulate and the given information to show that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ℓ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||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 = (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25)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 = (5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+ 12)°,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362320" cy="2313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93600" y="4343400"/>
            <a:ext cx="63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= 4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25 = 7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3 for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20760" y="480060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= 5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(13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12 = 7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ubstitute 13 for x.</a:t>
            </a:r>
            <a:r>
              <a:rPr b="0" lang="en-US" sz="2400" spc="-1" strike="noStrike">
                <a:solidFill>
                  <a:srgbClr val="3366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9840" y="601992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|| m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Conv. of Corr.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 P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960" y="5638680"/>
            <a:ext cx="60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Def. of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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3366ff"/>
                </a:solidFill>
                <a:latin typeface="Symbol"/>
                <a:ea typeface="Symbol"/>
              </a:rPr>
              <a:t>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5040" y="5257800"/>
            <a:ext cx="69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=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3366ff"/>
                </a:solidFill>
                <a:latin typeface="Verdana"/>
              </a:rPr>
              <a:t>Trans. Prop. of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20:28Z</dcterms:created>
  <dc:creator>HRW</dc:creator>
  <dc:description/>
  <dc:language>en-US</dc:language>
  <cp:lastModifiedBy>jayabalaji.b</cp:lastModifiedBy>
  <dcterms:modified xsi:type="dcterms:W3CDTF">2010-03-22T07:03:11Z</dcterms:modified>
  <cp:revision>39</cp:revision>
  <dc:subject/>
  <dc:title>Slide 1</dc:title>
</cp:coreProperties>
</file>