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B37-DF47-435F-B895-488C019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7C8-32B2-4958-B767-80CDDF3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166-4461-4406-83D2-DCEC8551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9F6-B6AE-4879-9DFB-76CB1F30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86A-95F7-47E4-8605-170BBF19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D77-0A93-4C25-BE11-8E8E230B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339-AF82-4D9C-8060-B59EB232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AC9-FBAB-4506-8179-3C9A499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DD1-D70A-48B0-BBD4-B1F240A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EFE-DC66-4584-8E39-6C263BDF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93A-AB5D-427A-9320-7C8F3CA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388-7A3F-4FE6-A2E9-80C8433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9F33-A065-4D28-B895-3AF530FAB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ving Lines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ving Lines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10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04812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verse of the Corresponding Angles Postulate is used to construct parallel lines. The Parallel Postulate guarantees that for any li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you can always construct a parallel line through a point that is not 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85800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828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Determining Whether Li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24080" y="304812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9640" y="495288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8600" y="556272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09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95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Determining Whether Li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3962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8 = 58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257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 = 12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2209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295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5410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Same-Side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932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58° + 12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°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2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3 are same-side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 =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523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 to the diagram. 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968560" cy="19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99640" y="464832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5360" y="5257800"/>
            <a:ext cx="53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352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gruent ang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447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 to the diagram. 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968560" cy="1947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28195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50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640" y="609588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||s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the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8098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0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0°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0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6641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0 = 100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7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lang="en-US" sz="2600" spc="-1" strike="noStrike">
                <a:solidFill>
                  <a:srgbClr val="006699"/>
                </a:solidFill>
                <a:latin typeface="Arial Black"/>
              </a:rPr>
              <a:t>Proving Lines Parall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8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|| 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480060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057400"/>
          <a:ext cx="8077320" cy="3135240"/>
        </p:xfrm>
        <a:graphic>
          <a:graphicData uri="http://schemas.openxmlformats.org/drawingml/2006/table">
            <a:tbl>
              <a:tblPr/>
              <a:tblGrid>
                <a:gridCol w="3429000"/>
                <a:gridCol w="464832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52320" y="2619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1400" y="3124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140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8280" y="4191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124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Alt. Ext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657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Conv. of Corr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752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440" y="22860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56264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143000"/>
            <a:ext cx="868680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 the converse of each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0°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col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95840" y="2589840"/>
            <a:ext cx="37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7324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re complementary, then m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m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21840" y="487584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and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re collinear, then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AB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1676520"/>
          <a:ext cx="8610480" cy="4538520"/>
        </p:xfrm>
        <a:graphic>
          <a:graphicData uri="http://schemas.openxmlformats.org/drawingml/2006/table">
            <a:tbl>
              <a:tblPr/>
              <a:tblGrid>
                <a:gridCol w="4037040"/>
                <a:gridCol w="4573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366840" y="2162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05320" y="21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6840" y="2590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8624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ef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6840" y="30481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re su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3048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6840" y="35053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0920" y="3505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6840" y="39625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05320" y="3962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6840" y="44197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4419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ert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840" y="48769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4876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33412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33760" y="5334120"/>
            <a:ext cx="47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v. of Same-Side Interi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837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</a:t>
            </a:r>
            <a:r>
              <a:rPr b="0" lang="en-US" sz="2600" spc="-1" strike="noStrike">
                <a:solidFill>
                  <a:srgbClr val="006699"/>
                </a:solidFill>
                <a:latin typeface="Arial Black"/>
              </a:rPr>
              <a:t>Carpentry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447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arpenter is creating a woodwork pattern and wants two long pieces to be parallel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= (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20)° a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10)°. I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15, show that pieces A and B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15952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6765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ine through the center of the horizontal piece forms a transversal to pieces 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895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re same-side interior angles. 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re supplementary, then pieces A and B are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4572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itute 15 f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3400" y="144792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8480" y="20318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8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0 =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3400" y="271764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98400" y="325116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920" y="386064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+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40 +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9520" y="436896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4360" y="20574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4360" y="32767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91176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1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2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9784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ame-side interior angles are supplementary, so pieces A and B are parallel by the Converse of the Same-Side Interior Angles Theo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467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…?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uppose the corresponding angles on the opposite side of the boat measure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2)° and (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6)°,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8. Show that the oars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51195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2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8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30°       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6 =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8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533760" cy="3867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57150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The angles are congruent, so the oars are || by the Conv. of the Corr. </a:t>
            </a:r>
            <a:r>
              <a:rPr b="0" lang="en-US" sz="28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3366ff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24480" y="1371600"/>
            <a:ext cx="2328840" cy="1760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0880" y="17524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the postulate or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at prov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000" y="2771640"/>
            <a:ext cx="17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2760" y="2771640"/>
            <a:ext cx="37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Alt. Int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000" y="343224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98880" y="3432240"/>
            <a:ext cx="37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Alt. Ext.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000" y="406728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38760" y="406728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Corr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6640" y="4753080"/>
            <a:ext cx="50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9000" y="5410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Same-Side Int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752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heorems and given information to prov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 || 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971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)°, 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)°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3581280"/>
            <a:ext cx="632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, so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≅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 || r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y the Conv. of Alt. Ext.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610840" cy="11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angles formed by a transversal to prove two lines are parall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75248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all that the converse of a theorem is found by exchanging the hypothesis and conclusion. The converse of a theorem is not automatically true. If it is true, it must be stated as a postulate or proved as a separate theo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722320" cy="20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Using the Converse of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4080" y="312408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9120" y="472428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corresponding ang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65880" y="5257800"/>
            <a:ext cx="52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Using the Converse of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722320" cy="2021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048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80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0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3600" y="441972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0 = 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30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0760" y="48769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0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50 = 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30 for x.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9840" y="609588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m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960" y="571500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5040" y="533412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ns. Prop.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219320"/>
            <a:ext cx="823752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362320" cy="231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458784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1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3 are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esponding ang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7200" y="5410080"/>
            <a:ext cx="52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219320"/>
            <a:ext cx="82375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25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= (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2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362320" cy="231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3600" y="434340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 = 7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3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20760" y="4800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3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2 = 7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3 for x.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9840" y="601992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m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960" y="563868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5040" y="525780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ns. Prop.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7:03:11Z</dcterms:modified>
  <cp:revision>39</cp:revision>
  <dc:subject/>
  <dc:title>Slide 1</dc:title>
</cp:coreProperties>
</file>